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A3F-62B1-48E2-B48B-030A12D0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7B3-EBA3-417A-B707-9468AC20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0EE-CD68-4F27-843B-CD9B6E22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C6C-D360-48B9-982F-1A716E18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214-1957-4A6C-811A-02B1F9C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67C-AF16-409D-A744-D3E5AFB3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190-0D39-4767-AF5E-091D3B74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106-4B3F-4D17-AF9C-4EBD9D4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8C3-F8AF-4B23-90F0-1B0227B3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AC1-88F4-4638-80DE-EA84525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7B2-6BC7-4CC5-9578-44C4EBC4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EFA-0395-4763-A320-D46BEE4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CDF4-5656-4B0D-AC83-FB50DB18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的香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8" descr="图片32.jpg"/>
          <p:cNvPicPr/>
          <p:nvPr/>
        </p:nvPicPr>
        <p:blipFill>
          <a:blip r:embed="rId2"/>
          <a:stretch/>
        </p:blipFill>
        <p:spPr>
          <a:xfrm>
            <a:off x="0" y="-304920"/>
            <a:ext cx="913464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752480" y="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洗干净的衣服，早晨一穿上，就有一股浓浓的太阳的香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藏在甜甜的果子里，藏在香喷喷的稻米中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10290652_668639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395267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129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52280" y="457200"/>
            <a:ext cx="4419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连迎着夕阳回到家的妈妈，身上也有太阳的香气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20070618_9a04fc78576ffc652031BybjuKIPrmsa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的香气藏在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09480" y="16765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填一填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动动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儿喜欢太阳，它可以在天空中自由地飞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儿喜欢太阳，它可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儿喜欢太阳，它可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太阳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7616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闻到过太阳的香气吗？你喜欢这样的香气吗？请谈一谈你的感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/>
          <p:cNvSpPr/>
          <p:nvPr/>
        </p:nvSpPr>
        <p:spPr>
          <a:xfrm>
            <a:off x="1981080" y="21337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再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</a:t>
            </a:r>
            <a:r>
              <a:rPr b="0" lang="en-US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</a:t>
            </a:r>
            <a:r>
              <a:rPr b="0" lang="en-US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0" lang="zh-CN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  香气  闻到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处</a:t>
            </a:r>
            <a:br>
              <a:rPr sz="48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br>
              <a:rPr sz="2000"/>
            </a:b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上  浓香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净  早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219320" y="2438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tài yáng  xiāng qì  wén dào   dào ch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990720" y="4038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wǎn shàng nóng xiāng  gān jìng zǎo ch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676520" y="114300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认一认 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28600" y="2286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万物生长靠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7428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闻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太阳的香气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thumb_1193906717_1925450594"/>
          <p:cNvPicPr/>
          <p:nvPr/>
        </p:nvPicPr>
        <p:blipFill>
          <a:blip r:embed="rId2"/>
          <a:stretch/>
        </p:blipFill>
        <p:spPr>
          <a:xfrm>
            <a:off x="0" y="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妈妈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晒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过的被子，晚上一打开，就有一股浓浓的太阳的香气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-137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被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352680" y="609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B Pinyinok-C"/>
                <a:ea typeface="GB Pinyinok-C"/>
              </a:rPr>
              <a:t>sh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3:12:04Z</dcterms:created>
  <dc:creator/>
  <dc:description/>
  <dc:language>en-US</dc:language>
  <cp:lastModifiedBy/>
  <dcterms:modified xsi:type="dcterms:W3CDTF">2014-11-24T12:40:00Z</dcterms:modified>
  <cp:revision>4</cp:revision>
  <dc:subject/>
  <dc:title>太阳的香气</dc:title>
</cp:coreProperties>
</file>